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FFFF-DAF1-45F0-8B53-456B98AF45D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ation of American Indian Heritag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American Indian Heritage Mon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 in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wo Jima, Major Howard Connor, 5th Marine Division signal officer, declared, "Were it not for the Navajos, the Marines would never have taken Iwo Ji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in the Pacif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wo Jima, Major Howard Connor, 5th Marine Division signal officer, declared, "Were it not for the Navajos, the Marines would never have taken Iwo Ji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Defense Honors Navajo Veter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Defense Honors Navajo Veter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d by Andrew Jones—Purchase Col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formation provided by infople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Andrew Jones—Purchase Colle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provided by infople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llinois, for example, legislators enacted such a day in 19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eleb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llinois, for example, legislators enacted such a day in 191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 places have been named after Indian words. In fact, about half of the states got their names from India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merican places have been named after Indian words. In fact, about half of the states got their names from India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comes from an Iroquoian word (Kentahten), which means "land of tomor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cut's name comes from the Mohican word (Quinnehtukqut), which means "beside the long tidal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hattan (NY)--Algonquian, believed to mean "isolated thing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from the Indian "Arizonac," meaning "little spring" or "young spring."</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from a Sioux word meaning "people of the south win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from the Ute tribe, meaning "people of the mountain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tucky comes from an Iroquoian word (Kentahten), which means "land of tomor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cut's name comes from the Mohican word (Quinnehtukqut), which means "beside the long tidal ri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hattan (NY)--Algonquian, believed to mean "isolated thing in w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from the Indian "Arizonac," meaning "little spring" or "young spring."</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from a Sioux word meaning "people of the south wi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from the Ute tribe, meaning "people of the mountain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Code Tal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ajo Code Tal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av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also knew that Native American languages—notably Choctaw—had been used in World War I to encode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ton believed Navajo answered the military requirement for an undecipherable code because Navajo is an unwritten language of extreme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syntax and tonal qualities, not to mention dialects, make it unintelligible to anyone without extensive exposure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 alphabet or symbols, and is spoken only on the Navajo lands of the American Sou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avaj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knew that Native American languages—notably Choctaw—had been used in World War I to encode messag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ton believed Navajo answered the military requirement for an undecipherable code because Navajo is an unwritten language of extreme complex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yntax and tonal qualities, not to mention dialects, make it unintelligible to anyone without extensive exposure and trai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no alphabet or symbols, and is spoken only on the Navajo lands of the American South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avajo code talker received a message, what he heard was a string of seemingly unrelated Navajo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talker first had to translate each Navajo word into its English equivalent. Then he used only the first letter of the English equivalent in sp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avajo code talker received a message, what he heard was a string of seemingly unrelated Navajo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talker first had to translate each Navajo word into its English equivalent. Then he used only the first letter of the English equivalent in spel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continu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ords had to be spelled out letter by l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ers of the original code assigned Navajo words to represent about 450 frequently used military terms that did not exist in the Navajo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examples: "besh-lo" (iron fish) meant "submarine," "dah-he-tih-hi" (hummingbird) meant "fighter plane" and "debeh-li-zine" (black street) meant "squ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continu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words had to be spelled out letter by l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the original code assigned Navajo words to represent about 450 frequently used military terms that did not exist in the Navajo langu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examples: "besh-lo" (iron fish) meant "submarine," "dah-he-tih-hi" (hummingbird) meant "fighter plane" and "debeh-li-zine" (black street) meant "squ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083C7-D58E-41AD-A6BD-17B195370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4F3D4-482A-4B1B-BD82-673B2666D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55BF8-7412-4AC1-963C-79F78FE5F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1526D-82ED-4B3D-88E1-2643C80E0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0B64B-1607-4FE6-B4CC-3ACF9B60C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41329-CFAE-4B16-B1DF-7D581CDAC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98CE-B9F4-46F4-AFCA-6A2EBA470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D8FB0-3F34-4E74-A4D6-7D5FF6960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2E9E8-F957-41DD-A460-DBAABF5DE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7778-9F8D-457C-8615-42F699737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BA183-6F50-425E-A991-90DFA7F23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9C29-7A50-4314-B57F-7A66E0CB5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146C-9144-4B01-9EF9-9223598F0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reation of American Indian Heritage Mont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What started at the turn of the century as an effort to gain a day of recognition for the significant contributions the first Americans made to the establishment and growth of the U.S., has resulted in a whole month being designated for that purpose.</a:t>
            </a:r>
            <a:br>
              <a:rPr sz="2400"/>
            </a:b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in the Pacific</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Iwo Jima, Major Howard Connor, 5th Marine Division signal officer, declared, "Were it not for the Navajos, the Marines would never have taken Iwo Jima.“</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nor had six Navajo code talkers working around the clock during the first two days of the battle. Those six sent and received more than 800 messages, all without error.</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Japanese chief of intelligence, Lieutenant General Seizo Arisue, said that while they were able to decipher the codes used by the U.S. Army and Army Air Corps, they never cracked the code used by the Marin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Defense Honors Navajo Vetera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ng unrecognized because of the continued value of their language as a security classified code, the Navajo code talkers of World War II were honored for their contributions to defense on Sept. 17, 1992, at the Pentagon, Washington, D.C. </a:t>
            </a:r>
            <a:br>
              <a:rPr sz="2400"/>
            </a:br>
            <a:r>
              <a:rPr b="0" lang="en-US" sz="2400" spc="-1" strike="noStrike">
                <a:solidFill>
                  <a:srgbClr val="000000"/>
                </a:solidFill>
                <a:latin typeface="Garamond"/>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roponents- continu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olidge issued a proclamation on Sept. 28, 1915, which declared the second Saturday of each May as an American Indian Day and contained the first formal appeal for recognition of Indians as citizen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ed by Andrew Jones—Purchase College</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provided by infoplease.com</a:t>
            </a:r>
            <a:endParaRPr b="0" lang="en-US" sz="32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arly Proponent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1915, the annual Congress of the American Indian Association meeting, formally approved a plan concerning American Indian Day. It directed its president, Rev. Sherman Coolidge, an Arapahoe, to call upon the country to observe such a da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e Celebrations</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first American Indian Day in a state was declared on the second Saturday in May 1916 by the governor of N.Y. Several states celebrate the fourth Friday in September.</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Illinois, for example, legislators enacted such a day in 1919.</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sently, several states have designated Columbus Day as Native American Day, but it continues to be a day we observe without any recognition as a national legal holiday.</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erican Indian Place Names</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any American places have been named after Indian words. In fact, about half of the states got their names from Indian words.</a:t>
            </a:r>
            <a:endParaRPr b="0" lang="en-US" sz="32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merican</a:t>
            </a:r>
            <a:r>
              <a:rPr b="0" lang="en-US" sz="4400" spc="-1" strike="noStrike">
                <a:solidFill>
                  <a:srgbClr val="000000"/>
                </a:solidFill>
                <a:latin typeface="Times New Roman"/>
              </a:rPr>
              <a:t> </a:t>
            </a:r>
            <a:r>
              <a:rPr b="0" lang="en-US" sz="4800" spc="-1" strike="noStrike">
                <a:solidFill>
                  <a:srgbClr val="000000"/>
                </a:solidFill>
                <a:latin typeface="Times New Roman"/>
              </a:rPr>
              <a:t>Indian Place Names—continued</a:t>
            </a:r>
            <a:endParaRPr b="0" lang="en-US" sz="48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ucky</a:t>
            </a:r>
            <a:r>
              <a:rPr b="0" lang="en-US" sz="2000" spc="-1" strike="noStrike">
                <a:solidFill>
                  <a:srgbClr val="000000"/>
                </a:solidFill>
                <a:latin typeface="Arial"/>
              </a:rPr>
              <a:t> comes from an Iroquoian word (Kentahten), which means "land of tomorrow.“</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cut's</a:t>
            </a:r>
            <a:r>
              <a:rPr b="0" lang="en-US" sz="2000" spc="-1" strike="noStrike">
                <a:solidFill>
                  <a:srgbClr val="000000"/>
                </a:solidFill>
                <a:latin typeface="Arial"/>
              </a:rPr>
              <a:t> name comes from the Mohican word (Quinnehtukqut), which means "beside the long tidal river."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hattan</a:t>
            </a:r>
            <a:r>
              <a:rPr b="0" lang="en-US" sz="2000" spc="-1" strike="noStrike">
                <a:solidFill>
                  <a:srgbClr val="000000"/>
                </a:solidFill>
                <a:latin typeface="Arial"/>
              </a:rPr>
              <a:t> (NY)--Algonquian, believed to mean "isolated thing in water." </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zona</a:t>
            </a:r>
            <a:r>
              <a:rPr b="0" lang="en-US" sz="2000" spc="-1" strike="noStrike">
                <a:solidFill>
                  <a:srgbClr val="000000"/>
                </a:solidFill>
                <a:latin typeface="Arial"/>
              </a:rPr>
              <a:t>-- from the Indian "Arizonac," meaning "little spring" or "young spr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sas</a:t>
            </a:r>
            <a:r>
              <a:rPr b="0" lang="en-US" sz="2000" spc="-1" strike="noStrike">
                <a:solidFill>
                  <a:srgbClr val="000000"/>
                </a:solidFill>
                <a:latin typeface="Arial"/>
              </a:rPr>
              <a:t>--from a Sioux word meaning "people of the south wind."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h</a:t>
            </a:r>
            <a:r>
              <a:rPr b="0" lang="en-US" sz="2000" spc="-1" strike="noStrike">
                <a:solidFill>
                  <a:srgbClr val="000000"/>
                </a:solidFill>
                <a:latin typeface="Arial"/>
              </a:rPr>
              <a:t>--from the Ute tribe, meaning "people of the mountains."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vajo Code Talkers</a:t>
            </a:r>
            <a:endParaRPr b="0" lang="en-US" sz="5400" spc="-1" strike="noStrike">
              <a:solidFill>
                <a:srgbClr val="000000"/>
              </a:solidFill>
              <a:latin typeface="Times New Roman"/>
            </a:endParaRPr>
          </a:p>
        </p:txBody>
      </p:sp>
      <p:sp>
        <p:nvSpPr>
          <p:cNvPr id="65"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Navajo?</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idea to use Navajo for secure communications came from Philip Johnston, the son of a missionary to the Navajos and one of the few non-Navajos who spoke their language fluentl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 also knew that Native American languages—notably Choctaw—had been used in World War I to encode mess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hnston believed Navajo answered the military requirement for an undecipherable code because Navajo is an unwritten language of extreme complexit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syntax and tonal qualities, not to mention dialects, make it unintelligible to anyone without extensive exposure and training.</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no alphabet or symbols, and is spoken only on the Navajo lands of the American Southwest. </a:t>
            </a:r>
            <a:endParaRPr b="0" lang="en-US" sz="20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Navajo Code Talker's Dictionary</a:t>
            </a:r>
            <a:endParaRPr b="0" lang="en-US" sz="4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en a Navajo code talker received a message, what he heard was a string of seemingly unrelated Navajo words.</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de talker first had to translate each Navajo word into its English equivalent. Then he used only the first letter of the English equivalent in spelling.</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us, the Navajo words "wol-la-chee" (ant), "be-la-sana" (apple) and "tse-nill" (axe) all stood for the letter "a." One way to say the word "Navy" in Navajo code would be "tsah (needle) wol-la-chee (ant) ah-keh-di-glini (victor) tsah-ah-dzoh (yucca)."</a:t>
            </a:r>
            <a:r>
              <a:rPr b="0" lang="en-US" sz="1800" spc="-1" strike="noStrike">
                <a:solidFill>
                  <a:srgbClr val="000000"/>
                </a:solidFill>
                <a:latin typeface="Garamond"/>
              </a:rPr>
              <a:t> </a:t>
            </a:r>
            <a:br>
              <a:rPr sz="1800"/>
            </a:br>
            <a:r>
              <a:rPr b="0" lang="en-US" sz="1800" spc="-1" strike="noStrike">
                <a:solidFill>
                  <a:srgbClr val="000000"/>
                </a:solidFill>
                <a:latin typeface="Garamond"/>
              </a:rPr>
              <a:t> </a:t>
            </a:r>
            <a:endParaRPr b="0" lang="en-US" sz="1800" spc="-1" strike="noStrike">
              <a:solidFill>
                <a:srgbClr val="000000"/>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Navajo Code Talker’s Dictionary—continued</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t all words had to be spelled out letter by letter.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velopers of the original code assigned Navajo words to represent about 450 frequently used military terms that did not exist in the Navajo language.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examples: "besh-lo" (iron fish) meant "submarine," "dah-he-tih-hi" (hummingbird) meant "fighter plane" and "debeh-li-zine" (black street) meant "squad."</a:t>
            </a: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1:06:32Z</dcterms:created>
  <dc:creator>Guest</dc:creator>
  <dc:description/>
  <dc:language>en-US</dc:language>
  <cp:lastModifiedBy>Legion</cp:lastModifiedBy>
  <dcterms:modified xsi:type="dcterms:W3CDTF">2017-07-05T08:50:13Z</dcterms:modified>
  <cp:revision>7</cp:revision>
  <dc:subject/>
  <dc:title>The Creation of American Indian Heritage Month</dc:title>
</cp:coreProperties>
</file>